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86575" cy="9677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FA0C-83E7-4A77-AAE8-00004EDD9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1EE2-F487-4DAF-AA70-C0B31BDCF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FE70-12DA-431F-A087-F5B83BA60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B65C-FDEA-4A8A-B8B9-45B2D9E7D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4EB20-C10A-413D-A784-D6130596B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951C4-D57D-4FC3-84C8-1CC69C749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6E5D9-66A3-40C2-95F6-061E92350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95A98-8295-41D3-A184-7AFFAA105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6885B-4171-4029-986D-867AE4EF2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DC222-BED8-44A5-A31E-B753231C9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2F0D5-A4BC-42C5-88E1-879A85F29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DC5C-0C5D-4157-B3CE-33EF88C6D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300DB-8B93-4BFE-B021-EFC76A1AE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549EF-5B20-48BC-8A66-4730A3191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C75EA-5614-47B1-A9E7-88CA9C921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A4C60-3EDB-47B0-9C1A-DA8554C85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9D9A4-BBF6-433F-AB27-BE68E1B54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A21D-E752-4847-9A3A-C657F2798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8529-E104-4407-8ED5-71F77E710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1EEF-38D0-435D-9279-B84868E83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9428-2511-404F-8312-96E700C9F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C25D-746C-40BC-8463-BACCD3995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C3A6-60B5-43F3-8498-A7E4686ED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55CA-51EB-4C08-9C3C-66791D766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ff5050"/>
                </a:gs>
                <a:gs pos="100000">
                  <a:srgbClr val="75242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813B6-E9BF-4912-9B38-7E74D19E6C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505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ff5050"/>
                </a:gs>
                <a:gs pos="100000">
                  <a:srgbClr val="75242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7767D-BB30-4763-A77C-A27BE422D6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166840" y="456840"/>
            <a:ext cx="629136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endParaRPr b="0" lang="en-US" sz="5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13400" y="6210360"/>
            <a:ext cx="423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cc0000"/>
                </a:solidFill>
                <a:latin typeface="Times New Roman"/>
              </a:rPr>
              <a:t>Département des Finances &amp; de l’Économ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62120" y="762120"/>
            <a:ext cx="76960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r>
              <a:rPr b="1" sz="5400" spc="-1" strike="noStrike">
                <a:solidFill>
                  <a:srgbClr val="cc0000"/>
                </a:solidFill>
                <a:latin typeface="Times New Roman"/>
              </a:rPr>
              <a:t>European Banking Federa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5029200"/>
            <a:ext cx="6400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3200" spc="-1" strike="noStrike">
                <a:solidFill>
                  <a:srgbClr val="cc0000"/>
                </a:solidFill>
                <a:latin typeface="Times New Roman"/>
              </a:rPr>
              <a:t>Monaco, June 200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505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rance   : 28%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505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Monaco : 22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505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taly       : 19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505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UK         : 8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505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elgium : 3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0000"/>
                </a:solidFill>
                <a:latin typeface="Arial"/>
              </a:rPr>
              <a:t>C – Population 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16760" y="1828800"/>
            <a:ext cx="53740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Break down by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nationality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:</a:t>
            </a: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243828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38080" y="2209680"/>
            <a:ext cx="70866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cc0000"/>
                </a:solidFill>
                <a:latin typeface="Arial"/>
              </a:rPr>
              <a:t>D – Focus 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cc0000"/>
                </a:solidFill>
                <a:latin typeface="Arial"/>
              </a:rPr>
              <a:t>          </a:t>
            </a:r>
            <a:r>
              <a:rPr b="1" sz="4400" spc="-1" strike="noStrike">
                <a:solidFill>
                  <a:srgbClr val="cc0000"/>
                </a:solidFill>
                <a:latin typeface="Arial"/>
              </a:rPr>
              <a:t>Banking activities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D – Banking activities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505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42 credit institutions :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l subsidiaries or branches from European grou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505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AUM  : 75 billion €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48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II Banking  sector regulation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160" y="1599840"/>
            <a:ext cx="7924680" cy="215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00"/>
                </a:solidFill>
                <a:latin typeface="Arial"/>
              </a:rPr>
              <a:t>1. A close and long standing relationship with France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23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1.1.</a:t>
            </a: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 Monaco and France : </a:t>
            </a:r>
            <a:br>
              <a:rPr sz="3600"/>
            </a:b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  </a:t>
            </a:r>
            <a:br>
              <a:rPr sz="3600"/>
            </a:b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A monetary union </a:t>
            </a:r>
            <a:br>
              <a:rPr sz="3600"/>
            </a:b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well before the euro zone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1.2 Implementation of the French banking regulation : CCLRF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685800" y="304812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1.3 licensing by French Committee </a:t>
            </a: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CECE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cc0000"/>
                </a:solidFill>
                <a:latin typeface="Arial"/>
              </a:rPr>
              <a:t>1.4 Supervision by the French authorities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sz="3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sz="3600" spc="-1" strike="noStrike">
                <a:solidFill>
                  <a:srgbClr val="cc0000"/>
                </a:solidFill>
                <a:latin typeface="Arial"/>
              </a:rPr>
              <a:t>Commission Bancai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00"/>
                </a:solidFill>
                <a:latin typeface="Arial"/>
              </a:rPr>
              <a:t>2. Monaco – part of the Euro zone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828800"/>
            <a:ext cx="746748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 </a:t>
            </a:r>
            <a:br>
              <a:rPr sz="4000"/>
            </a:b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I Economy</a:t>
            </a:r>
            <a:br>
              <a:rPr sz="4000"/>
            </a:br>
            <a:br>
              <a:rPr sz="4000"/>
            </a:b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II Banking  sector regulation </a:t>
            </a:r>
            <a:br>
              <a:rPr sz="4000"/>
            </a:br>
            <a:r>
              <a:rPr b="0" lang="en-GB" sz="36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440" y="2895480"/>
            <a:ext cx="80010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2.1 Monaco joined the Euro zon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on 1.1.2002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160" y="2514600"/>
            <a:ext cx="79246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2.2 Monaco has recently joined SEPA   :    March 2009</a:t>
            </a:r>
            <a:br>
              <a:rPr sz="4800"/>
            </a:b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9810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0000"/>
                </a:solidFill>
                <a:latin typeface="Arial"/>
              </a:rPr>
              <a:t>Thank you 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3141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00"/>
                </a:solidFill>
                <a:latin typeface="Arial"/>
              </a:rPr>
              <a:t>A – Monaco GDP 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A – GDP 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47640" y="1700280"/>
            <a:ext cx="698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1600200"/>
            <a:ext cx="7848720" cy="40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GDP 2007: 4,3 billion €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around 15 % growth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GDP  per capita : 60 K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€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1904760"/>
            <a:ext cx="77709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Sectors :  </a:t>
            </a: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Trade   : 16 % 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Banking and finance : 15 % 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Support activities: 15 %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Real Estate : 10 %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Tourism  : 10 %</a:t>
            </a:r>
            <a:br>
              <a:rPr sz="3600"/>
            </a:b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209680" y="838080"/>
            <a:ext cx="4724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A – GD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00"/>
                </a:solidFill>
                <a:latin typeface="Arial"/>
              </a:rPr>
              <a:t>B – Monaco Budget </a:t>
            </a:r>
            <a:br>
              <a:rPr sz="4000"/>
            </a:b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B - Budget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240" y="2209320"/>
            <a:ext cx="80773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479880" indent="-47988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tal Budget : 900 M€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ome    :  75% of tax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enses : very strong social syste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0 M€ in public 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-47988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public deb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-47988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 2008  :  + 4 M€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762120" y="3048120"/>
            <a:ext cx="6781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C – Monaco popul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0000"/>
                </a:solidFill>
                <a:latin typeface="Arial"/>
              </a:rPr>
              <a:t>C – Population 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99"/>
              </a:spcBef>
              <a:buClr>
                <a:srgbClr val="ff505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opulation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35 000 residen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Working population : 45.00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505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reak down by continents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: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99"/>
              </a:spcBef>
              <a:buClr>
                <a:srgbClr val="ff505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urope : 92 %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99"/>
              </a:spcBef>
              <a:buClr>
                <a:srgbClr val="ff505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ther continents : 8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1T13:16:25Z</dcterms:created>
  <dc:creator> </dc:creator>
  <dc:description/>
  <dc:language>en-US</dc:language>
  <cp:lastModifiedBy>Service Informatique</cp:lastModifiedBy>
  <dcterms:modified xsi:type="dcterms:W3CDTF">2009-06-18T06:45:30Z</dcterms:modified>
  <cp:revision>118</cp:revision>
  <dc:subject/>
  <dc:title>Conférence des Ambassadeurs</dc:title>
</cp:coreProperties>
</file>